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BF39-3B48-4099-8824-E6592A5A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CD76-D6E8-4EB3-AFED-3FEFAD0F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2EC1-E9A9-4B23-B6C2-E1F2CE09A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252B-DC1C-4166-9CE3-86C63DC11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D167-C013-413D-9DF9-1B30B712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C536-AE9A-478D-A86F-7BB48D52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25D1-C637-4BFA-AB78-AB7C2EDB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0B33-3D81-4E60-B17D-E2AA5D9F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88F4-AD54-4D63-AEA9-4CD6AACF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B80B-2441-4E91-8921-924E026F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FD1E-D633-4A82-86BF-84DAED51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37C4-2B46-4391-80DE-42469262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D01E-664C-4B2E-B5F8-019FE13D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A0ED-2299-46E6-B421-3D09FDBD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8582-D8F0-407E-AEDB-C21475A0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19B8-9194-4CC4-8D6B-237BB425C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BB26-C6CD-4218-B9DA-EACB77541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7E85-8B01-4918-82DC-2FB3254C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A425-2EB5-4195-AAE0-CF135669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5A37-FEF3-447F-966B-39CCB82C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4DB1-1466-47AB-962D-69A689A0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B835-0311-4FCB-B232-23330A5E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C04E-D9FB-4520-B784-5B9A5248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B649-0279-40CB-81E3-88BCE1AD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7B8F-D72E-401A-879A-C993F8D5E0DD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CCC6-DAB6-46A8-B31D-B05285E6FE6F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Al%20Bayan%20research%20Gantt.doc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Course:</a:t>
            </a:r>
            <a:br>
              <a:rPr sz="4400"/>
            </a:b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Fundamentals of Research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I: The Nature of Research: What is Resear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ho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Understanding Meaning of Research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ypes of Research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ic Research: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undamental/pur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search) advancement of knowledge and the theoretical understanding of the relations among vari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ing Researches (customer retention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ientific Resear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iness Research (benchmarking, brand-positioning, omnibus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a 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al Resear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thods of Research/Surveys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ualitativ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s are more understandable for people not statistically train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better encompass personal change over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lect the first po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understanding of psychological influ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ly used to investigate an issue deeply with regards to relevant behaviour and attitu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thods of Research/Surveys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uantitativ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d for mass investig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used to have a complete picture of a person’s patter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ord simple information on the incidence of attitudes, meanings and perceptions among the popu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are numbers/stat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read can be deadly 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xt on page 10  and answer to questions on page 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xt on page 12 and answer questions on page 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hank you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solidFill>
            <a:srgbClr val="ffffc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ture and types of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earch vs. Journal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ortance of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earch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hods of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re these characteristics of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the Research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solidFill>
            <a:srgbClr val="dde9e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in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titu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ation discove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f enlighten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Truth, assertion, assumption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acts or Opinion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More and more women are deciding to give birth at home. A hospital, after all, is not the best place for a baby to bo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finition of Researc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9360">
            <a:solidFill>
              <a:srgbClr val="cccc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studious, </a:t>
            </a:r>
            <a:r>
              <a:rPr b="1" lang="en-US" sz="3000" spc="-1" strike="noStrike">
                <a:solidFill>
                  <a:srgbClr val="cccc00"/>
                </a:solidFill>
                <a:latin typeface="Arial"/>
              </a:rPr>
              <a:t>systematic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inquiry or examination, especially a </a:t>
            </a:r>
            <a:r>
              <a:rPr b="1" lang="en-US" sz="3000" spc="-1" strike="noStrike">
                <a:solidFill>
                  <a:srgbClr val="cccc00"/>
                </a:solidFill>
                <a:latin typeface="Arial"/>
              </a:rPr>
              <a:t>critical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vestigation or experimentation having for its aim the discovery of </a:t>
            </a:r>
            <a:r>
              <a:rPr b="1" lang="en-US" sz="3000" spc="-1" strike="noStrike">
                <a:solidFill>
                  <a:srgbClr val="cccc00"/>
                </a:solidFill>
                <a:latin typeface="Arial"/>
              </a:rPr>
              <a:t>new fac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nd their </a:t>
            </a:r>
            <a:r>
              <a:rPr b="1" lang="en-US" sz="3000" spc="-1" strike="noStrike">
                <a:solidFill>
                  <a:srgbClr val="cccc00"/>
                </a:solidFill>
                <a:latin typeface="Arial"/>
              </a:rPr>
              <a:t>correct interpretation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r the revision of accepted conclusions, theories, or laws in the light of new discovered fa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earch vs. Journalis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28760" y="1714680"/>
            <a:ext cx="8229600" cy="4411440"/>
          </a:xfrm>
          <a:prstGeom prst="rect">
            <a:avLst/>
          </a:prstGeom>
          <a:solidFill>
            <a:srgbClr val="f3f3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earc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systematic, sceptical, ethics, unbiased, argumentative, methodological, cares for needs/sensitivity/psychology of the participant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ournalis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iece of writing having a main theme written by a person who saw the event or by a person who heard of the ev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ualities of researchers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biased (strength and limitation of cultural perspectives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epti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thi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stema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ognition of facts, attitudes, opinions, beliefs, knowledge claim, fai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le to judge validity of 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earch proces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solidFill>
            <a:srgbClr val="d6ad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ic/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question/statements/assump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ual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frame (E.g. </a:t>
            </a: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Gant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collection: desk research for secondary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earch proces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solidFill>
            <a:srgbClr val="d6ad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collection: surveys/interviews for primary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ign questionnai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tegorizing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alyzing/interpreting data (E.g. SPSS programm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enting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earch wri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17:39:21Z</dcterms:created>
  <dc:creator>user</dc:creator>
  <dc:description/>
  <dc:language>en-US</dc:language>
  <cp:lastModifiedBy>Lorenza Innocenti</cp:lastModifiedBy>
  <dcterms:modified xsi:type="dcterms:W3CDTF">2008-05-25T08:02:43Z</dcterms:modified>
  <cp:revision>22</cp:revision>
  <dc:subject/>
  <dc:title>Course: Foundamentals of Research</dc:title>
</cp:coreProperties>
</file>